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8BD0A-1F6B-4F64-9E2F-08C2FBA433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08E00-CB78-4EDB-A567-B9A2563B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D06E6-6E56-4AB6-8195-C2A2B257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84405-F045-40AB-9A19-34F8DB6F76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24BF-1E5E-47D6-82BB-6C411C0C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ADA89-2AD2-4725-A173-6F971EDE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FA412-8E0B-4E67-9CFD-FF600AE8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3D84-5A2F-443F-8778-FA09E16F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79AAF-0102-4889-9427-A310A0EB8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536C-3062-40C1-AC95-A2CDB32F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47E01-DFCA-4B57-8B6D-942C610D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D8B52-5AD3-4B39-900D-E8E5C5F0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290D-8A15-41E6-823F-FD0EF06866D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840" y="2214720"/>
            <a:ext cx="4286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章   分娩期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王艳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3920" y="1643040"/>
            <a:ext cx="66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迅速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1384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子宫收缩乏力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按摩子宫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两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宫缩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1" action="ppaction://hlinksldjump"/>
              </a:rPr>
              <a:t>压迫止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500280" y="27860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033080" y="2643120"/>
            <a:ext cx="109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2" action="ppaction://hlinksldjump"/>
              </a:rPr>
              <a:t>经腹部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096440" y="3357720"/>
            <a:ext cx="12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3" action="ppaction://hlinksldjump"/>
              </a:rPr>
              <a:t>腹部阴道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F:\旧电脑办公资料\教材编写\北京医学出版社教材编写2014-10\11.分娩期并发症护理（王艳荣返修稿）\第11章图片\11-2 双手腹壁按摩子宫法.jpg"/>
          <p:cNvPicPr/>
          <p:nvPr/>
        </p:nvPicPr>
        <p:blipFill>
          <a:blip r:embed="rId1"/>
          <a:stretch/>
        </p:blipFill>
        <p:spPr>
          <a:xfrm>
            <a:off x="2071800" y="1071720"/>
            <a:ext cx="4572000" cy="4519440"/>
          </a:xfrm>
          <a:prstGeom prst="rect">
            <a:avLst/>
          </a:prstGeom>
          <a:ln w="0">
            <a:noFill/>
          </a:ln>
        </p:spPr>
      </p:pic>
      <p:sp>
        <p:nvSpPr>
          <p:cNvPr id="134" name="矩形 4"/>
          <p:cNvSpPr/>
          <p:nvPr/>
        </p:nvSpPr>
        <p:spPr>
          <a:xfrm>
            <a:off x="3000600" y="5929200"/>
            <a:ext cx="25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双手腹壁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动作按钮: 后退或前一项 5">
            <a:hlinkClick r:id="" action="ppaction://hlinkshowjump?jump=previousslide"/>
          </p:cNvPr>
          <p:cNvSpPr/>
          <p:nvPr/>
        </p:nvSpPr>
        <p:spPr>
          <a:xfrm>
            <a:off x="835812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3" descr="F:\旧电脑办公资料\教材编写\北京医学出版社教材编写2014-10\11.分娩期并发症护理（王艳荣返修稿）\第11章图片\11-3 腹壁-阴道双手按摩子宫法.jpg"/>
          <p:cNvPicPr/>
          <p:nvPr/>
        </p:nvPicPr>
        <p:blipFill>
          <a:blip r:embed="rId1"/>
          <a:stretch/>
        </p:blipFill>
        <p:spPr>
          <a:xfrm>
            <a:off x="1143000" y="1071720"/>
            <a:ext cx="6500880" cy="47559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115800" y="5929200"/>
            <a:ext cx="31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腹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阴道双手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动作按钮: 后退或前一项 5">
            <a:hlinkClick r:id="rId2" action="ppaction://hlinksldjump"/>
          </p:cNvPr>
          <p:cNvSpPr/>
          <p:nvPr/>
        </p:nvSpPr>
        <p:spPr>
          <a:xfrm>
            <a:off x="828684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F:\旧电脑办公资料\教材编写\北京医学出版社教材编写2014-10\11.分娩期并发症护理（王艳荣返修稿）\第11章图片\11-4 无菌纱条宫腔填塞法.jpg"/>
          <p:cNvPicPr/>
          <p:nvPr/>
        </p:nvPicPr>
        <p:blipFill>
          <a:blip r:embed="rId1"/>
          <a:stretch/>
        </p:blipFill>
        <p:spPr>
          <a:xfrm>
            <a:off x="1428840" y="1071720"/>
            <a:ext cx="5486400" cy="4652640"/>
          </a:xfrm>
          <a:prstGeom prst="rect">
            <a:avLst/>
          </a:prstGeom>
          <a:ln w="0">
            <a:noFill/>
          </a:ln>
        </p:spPr>
      </p:pic>
      <p:sp>
        <p:nvSpPr>
          <p:cNvPr id="142" name="矩形 3"/>
          <p:cNvSpPr/>
          <p:nvPr/>
        </p:nvSpPr>
        <p:spPr>
          <a:xfrm>
            <a:off x="3101760" y="59292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无菌纱条宫腔填塞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动作按钮: 后退或前一项 4">
            <a:hlinkClick r:id="rId2" action="ppaction://hlinksldjump"/>
          </p:cNvPr>
          <p:cNvSpPr/>
          <p:nvPr/>
        </p:nvSpPr>
        <p:spPr>
          <a:xfrm>
            <a:off x="8215200" y="5929200"/>
            <a:ext cx="642960" cy="57168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292" h="21600">
                <a:moveTo>
                  <a:pt x="0" y="0"/>
                </a:moveTo>
                <a:lnTo>
                  <a:pt x="24292" y="0"/>
                </a:lnTo>
                <a:lnTo>
                  <a:pt x="24292" y="21600"/>
                </a:lnTo>
                <a:lnTo>
                  <a:pt x="0" y="21600"/>
                </a:lnTo>
                <a:close/>
              </a:path>
              <a:path fill="lightenLess" w="24292" h="21600">
                <a:moveTo>
                  <a:pt x="0" y="0"/>
                </a:moveTo>
                <a:lnTo>
                  <a:pt x="24292" y="0"/>
                </a:lnTo>
                <a:lnTo>
                  <a:pt x="22892" y="1400"/>
                </a:lnTo>
                <a:lnTo>
                  <a:pt x="1400" y="1400"/>
                </a:lnTo>
                <a:close/>
              </a:path>
              <a:path fill="darken" w="24292" h="21600">
                <a:moveTo>
                  <a:pt x="24292" y="0"/>
                </a:moveTo>
                <a:lnTo>
                  <a:pt x="24292" y="21600"/>
                </a:lnTo>
                <a:lnTo>
                  <a:pt x="22892" y="20200"/>
                </a:lnTo>
                <a:lnTo>
                  <a:pt x="22892" y="1400"/>
                </a:lnTo>
                <a:close/>
              </a:path>
              <a:path fill="darkenLess" w="24292" h="21600">
                <a:moveTo>
                  <a:pt x="24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2" y="20200"/>
                </a:lnTo>
                <a:close/>
              </a:path>
              <a:path fill="lighten" w="24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2" h="21600">
                <a:moveTo>
                  <a:pt x="5139" y="10800"/>
                </a:moveTo>
                <a:lnTo>
                  <a:pt x="19152" y="3794"/>
                </a:lnTo>
                <a:lnTo>
                  <a:pt x="19152" y="17806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逐层缝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软产道裂伤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不留死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切开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胎盘因素：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人工剥离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凝血机制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3214800" y="178596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主要护理诊断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合作性问题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714680"/>
            <a:ext cx="84297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灌注量不足   与大量阴道流血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感染的危险   与失血后机体抵抗力降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恐惧   与出血导致对生命的威胁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预感性悲哀   与大量出血危及生命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   失血性休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4240" y="157140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一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预防产后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前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孕期保健，定期产前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时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确处理产程，建立静脉通道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产后出血的因素，提高接产技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后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密切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开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2960" y="1357200"/>
            <a:ext cx="8143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二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 发生产后出血的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补充血容量：治疗成功的关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平卧、保暖、给氧、安静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观察生命体征、子宫收缩情况及阴道流血量、尿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三、心理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四、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9752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节 羊水栓塞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1428840"/>
            <a:ext cx="946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陈述产后出血、羊水栓塞、胎膜早破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列举产后出血、子宫破裂、羊水栓塞、胎膜早破的常见原因及主要护理诊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比较不同原因引起产后出血患者的临床表现及处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归纳先兆子宫破裂与子宫破裂的临床表现及处理原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解释羊水栓塞的病理机制及临床表现、胎膜早破与感染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脐带脱垂发生的因果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说出产后出血量的评估方法，并知道有效促进子宫收缩的按摩方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应用护理程序对产后出血、羊水栓塞、子宫破裂及胎膜早破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进行整体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06668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428840"/>
            <a:ext cx="8481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娩过程中羊水进入母血循环引起突发</a:t>
            </a:r>
            <a:r>
              <a:rPr b="1" lang="zh-CN" sz="2800" spc="-1" strike="noStrike" u="sng">
                <a:solidFill>
                  <a:srgbClr val="1d1496"/>
                </a:solidFill>
                <a:uFillTx/>
                <a:latin typeface="黑体"/>
                <a:ea typeface="黑体"/>
              </a:rPr>
              <a:t>急性肺栓塞、过敏性休克、弥散性血管内凝血、肾衰竭或猝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一系列严重症状的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病急、病情凶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宫颈内静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宫缩过强、急产、经产妇、缩宫素加强宫缩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损伤子宫壁血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置胎盘、子宫破裂、剖宫产术、胎盘早剥、羊水穿刺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一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肺动脉高压  寒战、咳嗽、紫  疳、低氧血症 、左心衰竭 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二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障碍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三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脏器功能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、肝、脑、心、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2960" y="99972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涂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线床边摄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功能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关的实验室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年龄 ＞ 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35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初产妇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宫缩过强，可致宫颈或子宫裂伤，较易发生羊水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生育史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急产史的产妇或多产妇宫颈或子宫壁有病理性薄弱处，发病机会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起病急骤，家属及产妇对此毫无心理准备，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急、无助、恐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母儿结局不良，家属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悲伤、愤怒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甚至出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过激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理社会状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14300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给氧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气管插管、正压给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解除肺动脉高压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阿托品、罂粟碱、氨茶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过敏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休克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补充血容量、多巴胺、纠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酸中毒、纠正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防治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防治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产科处理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尽快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28760" y="12859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7120" y="1499760"/>
            <a:ext cx="87868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气体交换受损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肺血管阻力增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组织灌注量改变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弥散性血管内凝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恐惧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死亡逼近感及担心胎儿安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窘迫的危险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母体循环衰竭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力衰竭、休克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肾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8480" y="1500120"/>
            <a:ext cx="69152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积极进行产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提供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三节  子宫破裂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56800" y="2356920"/>
            <a:ext cx="7572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一节 产后出血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念及分类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（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rupture of uterus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在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妊娠晚期或分娩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体部或子宫下段发生的破裂，是产科的严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原因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自发性        损伤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间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妊娠期        分娩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程度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完全          不完全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位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子宫体部      子宫下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8572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胎先露下降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疤痕或子宫肌壁本身的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收缩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创伤或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61048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下腹剧痛难忍、烦躁不安、呼叫、排尿困难、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血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病理缩复环、子宫下段膨隆、压痛明显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可触及子宫圆韧带、胎心率改变或听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84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感撕裂样腹部剧痛、腹痛骤减，稍后全腹呈持续性疼痛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休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全腹有压痛及反跳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在腹壁下可扪及胎体，胎心消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缩小宫体位于胎儿侧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阴道可能有鲜血流出，量可多可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28800" y="17146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穿刺或后穹隆穿刺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1356840"/>
            <a:ext cx="82864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病变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次刮宫、多产、宫腔严重感染、子宫畸形等可使子宫壁发生病理改变，从而增加发病机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手术史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子宫肌瘤剔除术、剖宫产史等所致子宫瘢痕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相关疾病史、缩宫素使用情况以及阴道助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抑制宫缩（静脉全麻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做尽快行剖宫产术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抢救休克，剖宫产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56800" y="21430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血性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预感性悲哀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子宫破裂后胎儿死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85520" y="1571400"/>
            <a:ext cx="8358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加强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临产阶段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现先兆破裂体征、执行医嘱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协助医师处理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提供术后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四节  胎膜早破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3840" y="128556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后出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ostpartum hemorrhag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出血量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剖宫产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0ml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  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13880" y="15717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临产前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膜破裂称胎膜早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前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不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发生率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感染、早产、胎儿窘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原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9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下生殖道感染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常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羊膜腔内压力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儿先露部不能衔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营养因素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Vc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锌等缺乏导致胎膜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宫颈内口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创伤、妊娠后期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症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发较多液体自阴道流出，无腹痛，继而少量间断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腹压增加羊水即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肛诊：上推胎儿先露部可见液体自阴道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期待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孕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28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不伴感染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期待治疗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终止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&gt;37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或有感染</a:t>
            </a:r>
            <a:r>
              <a:rPr b="1" lang="zh-CN" sz="2800" spc="-1" strike="noStrike">
                <a:solidFill>
                  <a:srgbClr val="660033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破膜时间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&gt;12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小时者，使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533520" y="150012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窥器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见液体自宫颈流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酸碱度检查：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＞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6.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涂片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羊齿状结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膜镜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可直视胎儿先露部，看不到前羊膜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14200" y="1500120"/>
            <a:ext cx="8715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受伤的危险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可能发生脐带脱垂和胎儿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产等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感染的危险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与生殖道病原微生物易于上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感染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虑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未知的妊娠结果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71760" y="1143000"/>
            <a:ext cx="7286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脐带脱垂的预防及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一般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症状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药物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娩期或剖宫产术相应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矩形 2" descr=""/>
          <p:cNvPicPr/>
          <p:nvPr/>
        </p:nvPicPr>
        <p:blipFill>
          <a:blip r:embed="rId1"/>
          <a:stretch/>
        </p:blipFill>
        <p:spPr>
          <a:xfrm>
            <a:off x="1176480" y="1731960"/>
            <a:ext cx="6943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6840" y="1571760"/>
            <a:ext cx="75582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子宫收缩乏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剥离延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间歇性出血、色暗红，有凝血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子宫底高，质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轮廓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428840"/>
            <a:ext cx="7753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胎盘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未娩出而出血多：胎盘部分剥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常见于：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粘连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植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处理不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滞留：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膀胱充盈、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膜部分残留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2600" y="1213920"/>
            <a:ext cx="8039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产道裂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表现发生在胎儿娩出后，持续、鲜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、阴道、宫颈、阴道穹隆、子宫下段、盆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暗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无凝血块 ， 出血不凝，出血不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71320" y="13572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诊断性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评估产后出血量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面积法、称重法、容积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血常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凝血功能检查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配血、</a:t>
            </a:r>
            <a:r>
              <a:rPr b="1" lang="en-US" sz="2400" spc="-1" strike="noStrike">
                <a:solidFill>
                  <a:srgbClr val="990033"/>
                </a:solidFill>
                <a:latin typeface="黑体"/>
                <a:ea typeface="黑体"/>
              </a:rPr>
              <a:t>3P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疾病史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婚育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期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阴道助产操作不规范、药物的使用不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7:57:05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